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6B89-2557-4936-BF1F-610EAE9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62A-FF7D-4646-ACA0-6BB9E48B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69A5-C96B-45AC-B54A-11795AE6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961-388B-41DC-A610-BDD4B629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658-197F-4C0D-8C53-1805AE56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8893-4A02-4838-AFA8-A4CA2B5F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EFC-A947-4F35-A026-1FF98B7F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93E-BD38-4FC6-9BE6-0AA3929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702-94F3-4C7C-AD31-6BC8F8D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88D-22AD-491A-827B-7208002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78BD-9007-4B8C-BD03-0A73B75F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1059-7B94-4CDC-83EE-E1B7451F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CC79-07A5-4B70-8CE0-FCD5D0BFB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ales Ta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742080" y="228600"/>
            <a:ext cx="2401920" cy="289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52840" cy="230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19920" y="3781440"/>
            <a:ext cx="3124080" cy="307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3949560"/>
            <a:ext cx="3505320" cy="2794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657600" y="4419720"/>
            <a:ext cx="18194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62520" y="6858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figure out how much tax you have to p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New Brunswick, we have to pay both sales tax and a tax we call the Goods and Services Tax (GST) on most items we bu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vernment decided to put both of these taxes together and call them the Harmonized Sales Tax.  (H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Brunswick’s HST is set at 14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means that everything you buy (including things like hair cuts) are subject to an additional 14%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352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’s important to be able to calculate this so that you will know how much money you will need to buy an i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Example, you want to buy a new bik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15000" y="2133720"/>
            <a:ext cx="243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ke you want costs $120.  How much is the sales tax on this bike.  How much will it cost you all together to buy the b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4920" y="1676520"/>
            <a:ext cx="4495680" cy="4495680"/>
            <a:chOff x="304920" y="1676520"/>
            <a:chExt cx="4495680" cy="4495680"/>
          </a:xfrm>
        </p:grpSpPr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209680" y="2666880"/>
              <a:ext cx="96696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8784200">
              <a:off x="2202840" y="2981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, figure out what question is being ask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4920" y="1676520"/>
            <a:ext cx="4495680" cy="4495680"/>
            <a:chOff x="304920" y="1676520"/>
            <a:chExt cx="4495680" cy="44956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449568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209680" y="2666880"/>
              <a:ext cx="966960" cy="8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 rot="18784200">
              <a:off x="2202840" y="2981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486400" y="160020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questio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5360" y="281952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ematically, it can be writt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36600" y="3733920"/>
            <a:ext cx="20905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0.14 x $120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41960" y="445608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 is money, we would state that the tax would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0400" y="5675400"/>
            <a:ext cx="71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o find the total cost, we add the tax to the price of the bi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56080" y="6172200"/>
            <a:ext cx="27943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$16.80 + $120 = $136.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30960" y="2133720"/>
            <a:ext cx="273348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hat is 14% of $120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22400" y="5181480"/>
            <a:ext cx="87732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$16.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gure out the Sales Tax and the total cost of the following item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266688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048120" cy="1765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3520" y="3809880"/>
            <a:ext cx="273204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91320" y="396252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98160" y="3429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1400" y="3200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69760" y="6095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6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84560" y="6095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b8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out the sales tax and total cost for each of the foll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971800" cy="210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281952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05520" y="4368960"/>
            <a:ext cx="309564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93440" y="35053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9.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27200" y="2514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8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4320" y="50292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96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78200" y="62118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4.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1:28:54Z</dcterms:created>
  <dc:creator>admin</dc:creator>
  <dc:description/>
  <dc:language>en-US</dc:language>
  <cp:lastModifiedBy>admin</cp:lastModifiedBy>
  <dcterms:modified xsi:type="dcterms:W3CDTF">2007-12-19T18:17:21Z</dcterms:modified>
  <cp:revision>7</cp:revision>
  <dc:subject/>
  <dc:title>Sales Tax </dc:title>
</cp:coreProperties>
</file>